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C37C-FD48-46FC-A35A-A012739A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F247-53EB-4092-8142-D33AEF69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6632-F86B-4B9D-BB2A-A109DCB3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31C2-7F13-40E3-A178-453937FB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5D12-C12D-433B-B15E-1F5764BB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EBE7-CC26-4E28-AD31-152F0C73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6402-7102-4D6A-8F09-21FA3740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E510-A7F5-4B1E-BF1D-48A8D7CA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0C0E-2057-43FC-9933-FFC4C15E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9383-0625-4950-94EE-3CB4EA9D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9458-B8B6-4A6B-ABE2-C1D91F2D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D52F-02D8-4AF5-84EC-F6D7E4E9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4A86-BB10-42DD-923F-51D68609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DF32-ED29-4A12-B72A-A9BB451A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6160-04E1-4F9C-90A6-02AFEF1A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967B-C910-421B-907B-C16133DF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0AA9-610C-4A3A-BC92-5A9909E5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C181-FB90-4A21-880B-61DB6686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4C32-C66B-40A5-A144-D12C691F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5FC3-9BAF-40AA-94A8-58FBC529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77E-03E5-4C27-A206-932AB268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A68-AA47-4D6F-80AE-8C349E73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A11-B5A4-41FA-A2A7-8A3FFEFE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CA1-6F17-47AA-BB91-7302D17E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8AAB-E260-42D4-AE08-76B08F12412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1BE2-DEE7-497D-BC60-4FBA7AA6AF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rts of Speec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ight Parts of Speech you MUST know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hy do we spend so much time on parts of speech in clas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need to learn every single principle because less-than-great grammar dooms you to a life of being misunderst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many times have you had to clarify what you meant to “say”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oint is to understand grammatical principles so well that you can communicate beautifully with no effort at a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Nou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noun is a word or word group that is used to name a person, a place, a thing, or idea.  It is used as a subject, direct object, predicate nominative, or object of the prepos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no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ronoun is a word that is used in place of a noun; it can be the subject or object of the prepos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djectiv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djective is a word that is used to describe a noun or a pronoun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er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verb is an action or being word that shows or tells what the subject is do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dver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dverb is a word that modifies (describes) a verb, an adjective, or another adverb; usually ends in “ly,” answers the questions – HOW, WHEN, or WHE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e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reposition is a word that begins a phrase that shows the relationship of a noun or pronoun to another word; it can not stand alone as a sentence; it always has a phrase that goes with it.  The simple subject or simple predicate will NEVER be found he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jun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njunction is a word that connects words, phrases, or word groups (clauses or phrases) together; there are two types: coordination and correlativ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terj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interjection is a word that expresses an emotion or strong feeling and is usually found at the beginning or end of a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8:51:29Z</dcterms:created>
  <dc:creator>sjaye</dc:creator>
  <dc:description/>
  <dc:language>en-US</dc:language>
  <cp:lastModifiedBy>sjaye</cp:lastModifiedBy>
  <dcterms:modified xsi:type="dcterms:W3CDTF">2010-10-25T19:36:03Z</dcterms:modified>
  <cp:revision>7</cp:revision>
  <dc:subject/>
  <dc:title>Parts of Speech</dc:title>
</cp:coreProperties>
</file>